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4E40-7FDB-4278-814E-120B13103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3A77-D8BC-438B-84A4-05F93CE4B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F76F-231D-4B81-A4F5-B01704B1F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67F5-F7EA-4921-88C4-3F90F87DD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6B2A1-7D27-4AF9-89E9-35CEF1D14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81198-2263-47D1-8D21-52A1A5A0F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698DA-065A-40AF-AE46-8B39B70C9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F62E0-6153-4021-A3A5-44AAF390C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6DB64-6DE6-4E40-8B35-CB6CE2F84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FAEDD-6F4F-4ACE-AA29-D4A45292C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E6ACB-45FF-4FF2-ADEA-8F17821E1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7F8A-BDD9-42E7-898A-0C8329992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EE5CF-3D5B-4DCB-B142-0DADCA7C7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336B9-041C-4322-8DDF-9F3B41B5B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50267-EC5E-4C30-89D5-2AEDDE682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24DAB-3B36-4A06-97DC-AC6488347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38834-C1EC-47C8-AFE9-0CE335BF9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B990-8289-4850-906B-6B659A67D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9FD2-C515-477E-9D8A-657DAD429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8C96-E145-4525-ADE7-421ED6ACA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74F4-2D85-4674-91DA-AA68647C6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9B3D-E131-4155-B69E-E60B00776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88A3-FC05-45D9-A4AC-F3B39381D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2930-AF83-4EF0-965C-3DAD005E9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632B0-A9FA-4BF3-9416-16689641AFEF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1186A-C756-4EE5-81FA-EB2CA7D3BB9E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2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직의 성격과 </a:t>
            </a: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          교사의 역할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비형식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적인 구조에서 허용되지 않는 방식으로 자신을 표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형식적 임무수행이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공식적인 조직의 목적이나 절차가 수정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의 소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취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신 등의 비형식적 구조가 형식적 구조에 영향을 미침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부수적인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르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촉진자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는 촉진자가 되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급에서의 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화된 지식 전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식적인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중재 역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내면화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을 위한 올바른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아실현과 동기부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역할극이 마감되는 것을 인지하는 교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자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품과 전문성 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이상적인 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언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한국교육개발원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교육내용과 방법이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자질도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그러나 봉사와 사명감은 존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성에 기초한 학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심의 교직의 실행력은 곧 바람직한 교사의 자질로 재현될 것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람이 그리운 사회에서 사람만이 희망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이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?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와 교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사와 의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죄인과 인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특징과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의 정신생활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성숙자를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봉사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와 민족에 영향을 미치는 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진보에 중요한 역할을 담당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향상을 도모하기 유리한 직업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을 보는 관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노동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공 봉사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율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직업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비형식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부수적인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급에서의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본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식과 기술을 전달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과정을 조력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평가의 주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평가와 성취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직업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피고용인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경영에서의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장과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부모와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가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다면적인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족관계의 역할을 모두 수행하는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관찰력이 분명하고 정확한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7T01:34:59Z</dcterms:created>
  <dc:creator>XPuser</dc:creator>
  <dc:description/>
  <dc:language>en-US</dc:language>
  <cp:lastModifiedBy>XPuser</cp:lastModifiedBy>
  <dcterms:modified xsi:type="dcterms:W3CDTF">2008-09-17T02:16:16Z</dcterms:modified>
  <cp:revision>6</cp:revision>
  <dc:subject/>
  <dc:title>제 2장 교직의 성격과            교사의 역할</dc:title>
</cp:coreProperties>
</file>